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.png" ContentType="image/png"/>
  <Override PartName="/ppt/media/image4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44.jpeg" ContentType="image/jpeg"/>
  <Override PartName="/ppt/media/image38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D8AA-87A7-4A4A-B858-1042BE18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5E4-2E98-4762-BE44-F93B5FD4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35F-55E0-472E-9503-62143911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B24-5557-4854-8CAC-E9CA8798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A8D0-85AA-4874-B882-3785A358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78F-0D05-40C0-AF2F-D9681E5C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EB6-3622-4EAD-B41B-0CB47367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5F05-879D-4F9C-BD39-E5F7E5AA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7CC9-493D-4195-91DE-512B62AD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3D46-A538-47AA-A5EE-9AB2CE86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10FB-967F-441F-AC44-48B01771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CBE-A319-44DE-984E-BC2375E4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4C7C-43A2-4DB0-A9D5-148C87FD7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ВО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И СТАКЛАСТО ТЕЛ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br>
              <a:rPr sz="2400"/>
            </a:br>
            <a:r>
              <a:rPr b="1" lang="sr-C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АТОМИЈА,  </a:t>
            </a:r>
            <a:br>
              <a:rPr sz="1600"/>
            </a:br>
            <a:r>
              <a:rPr b="1" lang="sr-C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СТОЛОГИЈА, ФИЗИОЛОГИЈА И ПАТОЛОГИЈА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1600"/>
            </a:br>
            <a:r>
              <a:rPr b="1" lang="sr-C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ФУНКЦИОНАЛНА ДИЈАГНОСТИКА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br>
              <a:rPr sz="1600"/>
            </a:br>
            <a:r>
              <a:rPr b="1" lang="sr-C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САВРЕМЕНИ ТЕРАПИЈСКИ МОДУЛ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ц. др Татј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Шаренац Вулов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nukleus y suture.png"/>
          <p:cNvPicPr/>
          <p:nvPr/>
        </p:nvPicPr>
        <p:blipFill>
          <a:blip r:embed="rId1"/>
          <a:stretch/>
        </p:blipFill>
        <p:spPr>
          <a:xfrm>
            <a:off x="2438280" y="990720"/>
            <a:ext cx="499608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Улога соч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псорпција УВ зр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ефрак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комода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Рефракција соч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ламање светлости-пролазак светлости кроз средине различитог индекса прелам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оптрика ока-конвексне и конкавне површине, оптички ређе или гушћ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Усправан, умањен и обрнут 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+43 диотрије-рожњача, +20диоптрија-сочи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dobor refrakcija.jpg"/>
          <p:cNvPicPr/>
          <p:nvPr/>
        </p:nvPicPr>
        <p:blipFill>
          <a:blip r:embed="rId1"/>
          <a:stretch/>
        </p:blipFill>
        <p:spPr>
          <a:xfrm>
            <a:off x="6477120" y="5526000"/>
            <a:ext cx="2501640" cy="13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Оптичка својства соч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азличит индекс преламања у централним и периферним дело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роматска абер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ферна абер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Ширина зенице-оптимално 2-2,5м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hromatska aberacija.png"/>
          <p:cNvPicPr/>
          <p:nvPr/>
        </p:nvPicPr>
        <p:blipFill>
          <a:blip r:embed="rId1"/>
          <a:stretch/>
        </p:blipFill>
        <p:spPr>
          <a:xfrm>
            <a:off x="914400" y="4572000"/>
            <a:ext cx="2752560" cy="1657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ferna aberacija.jpg"/>
          <p:cNvPicPr/>
          <p:nvPr/>
        </p:nvPicPr>
        <p:blipFill>
          <a:blip r:embed="rId2"/>
          <a:stretch/>
        </p:blipFill>
        <p:spPr>
          <a:xfrm>
            <a:off x="4952880" y="4648320"/>
            <a:ext cx="3030480" cy="17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комодац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пособност ока да предмет јасно види од најближе до најдаље тачке јасног ви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комодација: активна-цилијарни мишић и пасивна-сочив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Цилијарни мишић- меридионална лонгитудинална влакна- Брикеов мишић; циркуларна радијална влака- Милеров миши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70 лигамена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+14 диотр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8" descr="akomodacija"/>
          <p:cNvPicPr/>
          <p:nvPr/>
        </p:nvPicPr>
        <p:blipFill>
          <a:blip r:embed="rId1"/>
          <a:stretch/>
        </p:blipFill>
        <p:spPr>
          <a:xfrm>
            <a:off x="4354560" y="4734000"/>
            <a:ext cx="478944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Цилијарни мишић је контролисан од стране парасимпатикуса –Вестфал Едингерово једр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Трећи кранијални нер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Цилијарни ганглион иза очне јабучиц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Цилијарни нерв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Цилијарни мишић, сфинктер пупил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АКОМОДАЦИЈА И МИОЗ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Стимулус за акомодацију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јасна слика посматраног предме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Хроматска аберац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Свесност о близини предме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Из Бродманове зоне стимулус долази преко претекталне регије до ВЕ једр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Механизам акомод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мпулс из ВЕ једра, цилијарни миш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пуштање зону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спупчи се сочи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већање преломне моћи соч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еакција блиског одговора-конверген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Механизам акомод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3" descr="akomodacija.jpg"/>
          <p:cNvPicPr/>
          <p:nvPr/>
        </p:nvPicPr>
        <p:blipFill>
          <a:blip r:embed="rId1"/>
          <a:stretch/>
        </p:blipFill>
        <p:spPr>
          <a:xfrm>
            <a:off x="2057400" y="1600200"/>
            <a:ext cx="38671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akomodacija put.JPG"/>
          <p:cNvPicPr/>
          <p:nvPr/>
        </p:nvPicPr>
        <p:blipFill>
          <a:blip r:embed="rId1"/>
          <a:stretch/>
        </p:blipFill>
        <p:spPr>
          <a:xfrm>
            <a:off x="533520" y="53352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Биохемијски састав соч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да 6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теини 34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6%: Аминокиселине, глукоза, липиди, неоргански јони, инозитол, таурин, глутатион... (1/дифузија, 2/активни транспорт, 3/синтеза у сочив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во је аваскуларно па већину метаболита добија из очне вод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Основне карактеристи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У задњој очној комори, иза дужице →раздваја предњи од задњег сегмента о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Биконвексног обли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Fossa patellaris s.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hyaloid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вина сочива (</a:t>
            </a:r>
            <a:r>
              <a:rPr b="0" i="1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axis lentis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спаја предњи и задњи пол сочи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: 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7-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95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mm↔ 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m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дња страна сочива: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=10↔5,33 m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ња страна сочива: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=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↔5,33 m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Екватор сочива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9-10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m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минокиселин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и транспорт 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серум-очна водица-сочиво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насупрот концен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r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цијском градије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во&gt;очна водица&gt;серу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 синтезу структурних проте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минокиселина у сочиву, ↑натријум-сенилна катара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Угљени хидр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УКОЗА: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Сочиво: очна водица 1: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таболизам: аеробни и анаероб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ромене у биохемијском сасатвау сочива код катарак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таракта: ↓АК, ↑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СКОРБИНСКА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.оксидо-редукциони проце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УТАТИОН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лфхидрилни протеин који има главну улогу у детоксикацији сочива од слободних радикала (редуковани и оксидовани обли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њак глутатиона: стварањ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-S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за и агломерација проте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са и величина сочива се повећавају целог живота (највише у прве 2 децениј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ећава се количина нерастворљивих албуминоида у нуклеу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ањење активности гликолитичких ензима→↑конц.глукозе→сорбитолскипут→накупљање сорбитола→ вода → бубрење соч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ањење антиоксидативних механиз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ећана апсорциј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UV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зр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омене на сочиву код катарак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↓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ластичности капсу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↑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бљине нукле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↓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дијуса закривљености предње површине соч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↓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даљине између сочива и рожња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атаракт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Кортикална скра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ећање количине воде у сочиву→вакуоле у сочиву→замућење соч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штећење капсуле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UV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цима→повећана пропусност за воду и глукозу (↑сорбитол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ећање конц.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Na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и/или глукоз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486400" y="15228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ктори средине, изложеност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UV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цима, системске болести, плућна инсуфицијенција,  дијабет, хипертензија, хиперхолестеролемија, лекови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Content Placeholder 3" descr="coricalis.jpg"/>
          <p:cNvPicPr/>
          <p:nvPr/>
        </p:nvPicPr>
        <p:blipFill>
          <a:blip r:embed="rId1"/>
          <a:stretch/>
        </p:blipFill>
        <p:spPr>
          <a:xfrm>
            <a:off x="5257800" y="297180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Calibri"/>
              </a:rPr>
              <a:t>Нуклеарна скра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nuclearis.jpg"/>
          <p:cNvPicPr/>
          <p:nvPr/>
        </p:nvPicPr>
        <p:blipFill>
          <a:blip r:embed="rId1"/>
          <a:stretch/>
        </p:blipFill>
        <p:spPr>
          <a:xfrm>
            <a:off x="3886200" y="1905120"/>
            <a:ext cx="5024520" cy="334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457200" y="1905120"/>
            <a:ext cx="2819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гломерација протеина услед стварањ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-S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Жућкаста боја нуклеуса: фотокосидација тирозина и триптоф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23880"/>
            <a:ext cx="80773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линички симпто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утноћа (посебно у фотопским условим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ојени халои око извора светлости праћени дуплим сликама (диплопиј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мена рефракције у миопну (код нуклеарне катаракт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отопс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боља видна оштрина при слабијем светл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хроматопсија (немогућност апсорције таласа краће таласне дужи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линички зна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д видне оштр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утноће у црвеном рефлексу (тамне зоне у сочиву при просветљавању зеничног преде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абизам и органска амблио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red reflex.jpg"/>
          <p:cNvPicPr/>
          <p:nvPr/>
        </p:nvPicPr>
        <p:blipFill>
          <a:blip r:embed="rId1"/>
          <a:stretch/>
        </p:blipFill>
        <p:spPr>
          <a:xfrm>
            <a:off x="3124080" y="46483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Функционални прегле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итивање видне оштр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јутеризовано видно поље-пад осетљивост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рни вид (дефицит у плаво-жутом делу спектра посебно код нуклеарних катаракт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трасна сензитивност (смањењ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воцирани видни потенција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без проме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уп танких укрштених влакана 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fibrae zonulare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које спајају сочиво са цилијарним телом (7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топлазматски продужеци светлих  ћелија цилијарног подручја рет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ња, средња и предња влакна: припој 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5-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м испред  и 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м иза еква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онуларни простори “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patia zonularia” 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Hanover</a:t>
            </a:r>
            <a:r>
              <a:rPr b="0" i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ов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кана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трозонуларни простор 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etit-</a:t>
            </a:r>
            <a:r>
              <a:rPr b="0" i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кана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Еволутивни стадију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четна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(Cataracta incipie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бубрел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(Cataracta intumesce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рел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(Cataracta matur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зрел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(Cataracta hypermatur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Cataracta incipi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тна замућења у сочиву видљива у црвеном рефлексу приликом просветљавања зеничног предела и прегледа биомикроскоп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ањење видне оштрине (ако су замућења у нуклеусу или задњем кортекс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ounded Rectangle 3"/>
          <p:cNvSpPr/>
          <p:nvPr/>
        </p:nvSpPr>
        <p:spPr>
          <a:xfrm>
            <a:off x="3200400" y="4876920"/>
            <a:ext cx="2971800" cy="1981080"/>
          </a:xfrm>
          <a:prstGeom prst="roundRect">
            <a:avLst>
              <a:gd name="adj" fmla="val 10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Cataracta intumesc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во у целини замуће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во је већег волумена јер је хиперосмолар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тј. садржи већу количину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тисак на дужицу→смањење угла предње  очне коморе→ризик од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комеханичког глаук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ounded Rectangle 3"/>
          <p:cNvSpPr/>
          <p:nvPr/>
        </p:nvSpPr>
        <p:spPr>
          <a:xfrm>
            <a:off x="6095880" y="4876920"/>
            <a:ext cx="1828800" cy="1714320"/>
          </a:xfrm>
          <a:prstGeom prst="roundRect">
            <a:avLst>
              <a:gd name="adj" fmla="val 10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Calibri"/>
              </a:rPr>
              <a:t>Cataracta matu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во у целини замуће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дна оштрина сведена на осећај свет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eukokoria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о зенични преде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во је нормалног волу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вна влакна дегенерисана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уле фрагилне и осетљиве на мининмалну трау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ounded Rectangle 3"/>
          <p:cNvSpPr/>
          <p:nvPr/>
        </p:nvSpPr>
        <p:spPr>
          <a:xfrm>
            <a:off x="4191120" y="4952880"/>
            <a:ext cx="2666880" cy="1714680"/>
          </a:xfrm>
          <a:prstGeom prst="roundRect">
            <a:avLst>
              <a:gd name="adj" fmla="val 10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Cataracta hyperm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вна капсула пропушта продукте дегенерације сочива који се у виду беле суспензије накупљају у предњој очној комор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во је смањеног волумена па је предња очна комора дубљ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мпликације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Луксација или сублуксација соч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Факолитички глаук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Факоантигени увеити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morgagni.jpg"/>
          <p:cNvPicPr/>
          <p:nvPr/>
        </p:nvPicPr>
        <p:blipFill>
          <a:blip r:embed="rId1"/>
          <a:stretch/>
        </p:blipFill>
        <p:spPr>
          <a:xfrm>
            <a:off x="6172200" y="48006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ypermatura.jpg"/>
          <p:cNvPicPr/>
          <p:nvPr/>
        </p:nvPicPr>
        <p:blipFill>
          <a:blip r:embed="rId2"/>
          <a:stretch/>
        </p:blipFill>
        <p:spPr>
          <a:xfrm>
            <a:off x="6705720" y="304920"/>
            <a:ext cx="169380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Етиолошке форме катарак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енил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сенил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аумат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мпликов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толо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екудар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нгенитал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енилна катара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атарактогени фактори: метаболичка акитвност у сочив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катарактогени фактори-УВ зрачење, пушење, оксидативни стрес, ДМ, ↑хол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омене у сочиву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идратација сочива-вакуол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укотине у кортексу соч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мекшање у кортексу соч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Вогтова сферична замућења у капсу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Calibri"/>
              </a:rPr>
              <a:t>Нуклеарна катара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Content Placeholder 2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467560" cy="5280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nuclearis.jpg"/>
          <p:cNvPicPr/>
          <p:nvPr/>
        </p:nvPicPr>
        <p:blipFill>
          <a:blip r:embed="rId2"/>
          <a:stretch/>
        </p:blipFill>
        <p:spPr>
          <a:xfrm>
            <a:off x="6172200" y="4724280"/>
            <a:ext cx="248616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тикална катара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зултат хиперхидратације соч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унеифрм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упулиформ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огт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coricalis.jpg"/>
          <p:cNvPicPr/>
          <p:nvPr/>
        </p:nvPicPr>
        <p:blipFill>
          <a:blip r:embed="rId1"/>
          <a:stretch/>
        </p:blipFill>
        <p:spPr>
          <a:xfrm>
            <a:off x="4495680" y="4267080"/>
            <a:ext cx="237672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рауматска катара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лађе особ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нтузиона повре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уптура капсуле соч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рано тело у сочи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ејство физичког аген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traumatica.jpg"/>
          <p:cNvPicPr/>
          <p:nvPr/>
        </p:nvPicPr>
        <p:blipFill>
          <a:blip r:embed="rId1"/>
          <a:stretch/>
        </p:blipFill>
        <p:spPr>
          <a:xfrm>
            <a:off x="5562720" y="2286000"/>
            <a:ext cx="2419200" cy="18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odnosi.jpg"/>
          <p:cNvPicPr/>
          <p:nvPr/>
        </p:nvPicPr>
        <p:blipFill>
          <a:blip r:embed="rId1"/>
          <a:stretch/>
        </p:blipFill>
        <p:spPr>
          <a:xfrm>
            <a:off x="380880" y="304920"/>
            <a:ext cx="6175440" cy="345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F:\odnosi 1.png"/>
          <p:cNvPicPr/>
          <p:nvPr/>
        </p:nvPicPr>
        <p:blipFill>
          <a:blip r:embed="rId2"/>
          <a:stretch/>
        </p:blipFill>
        <p:spPr>
          <a:xfrm>
            <a:off x="2819520" y="3809880"/>
            <a:ext cx="594360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онтузиона катара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з видљиве руптуре капсу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атице цвета на задњем полу сочи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бепителна тачкаста замућења екваторијално аксијално локализов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ossius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в прстен: депо пигмента на предњој капсули око пупиларног ру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contusio.jpg"/>
          <p:cNvPicPr/>
          <p:nvPr/>
        </p:nvPicPr>
        <p:blipFill>
          <a:blip r:embed="rId1"/>
          <a:stretch/>
        </p:blipFill>
        <p:spPr>
          <a:xfrm>
            <a:off x="2743200" y="4952880"/>
            <a:ext cx="3581280" cy="16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ерфорација капсуле соч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дор очне водице →бубрење соч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ционарно: ограничено на предео руптуре која је затворена налегњем дуж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ће руптуре: продор сочивних маса у предњу комору у виду печур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perforatio.jpg"/>
          <p:cNvPicPr/>
          <p:nvPr/>
        </p:nvPicPr>
        <p:blipFill>
          <a:blip r:embed="rId1"/>
          <a:stretch/>
        </p:blipFill>
        <p:spPr>
          <a:xfrm>
            <a:off x="1295280" y="4267080"/>
            <a:ext cx="3075120" cy="237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perforatio 1.jpg"/>
          <p:cNvPicPr/>
          <p:nvPr/>
        </p:nvPicPr>
        <p:blipFill>
          <a:blip r:embed="rId2"/>
          <a:stretch/>
        </p:blipFill>
        <p:spPr>
          <a:xfrm>
            <a:off x="5715000" y="4648320"/>
            <a:ext cx="2276640" cy="20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исуство страног тела у сочи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зија капсуле и сочивних влакана, продор водице, импрегнација оксидима метал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Сидероза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Субкапсуларни депои пигмента, мидријаза, хетерохромија дужице, ликвефракција С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V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pseudo retinitis pigmentosa→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штећен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ER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Халкоз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Жућкаста боја сочива “сунцокрет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Kayser Fleischer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в прстен на рожњач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ontent Placeholder 4" descr="strano telo 1.png"/>
          <p:cNvPicPr/>
          <p:nvPr/>
        </p:nvPicPr>
        <p:blipFill>
          <a:blip r:embed="rId1"/>
          <a:stretch/>
        </p:blipFill>
        <p:spPr>
          <a:xfrm>
            <a:off x="4191120" y="3276720"/>
            <a:ext cx="4529160" cy="3240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strano telo.jpg"/>
          <p:cNvPicPr/>
          <p:nvPr/>
        </p:nvPicPr>
        <p:blipFill>
          <a:blip r:embed="rId2"/>
          <a:stretch/>
        </p:blipFill>
        <p:spPr>
          <a:xfrm>
            <a:off x="228600" y="304920"/>
            <a:ext cx="39560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Физички аген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ATARACTA ELECTRICA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ELECTROCU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нилатерално на страни пролаза стру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кон 2-4 месеца од акцид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дња а затим задња субкапсулар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ATARACTA E FULMIN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(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удар грома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ATARACTA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X IRRADIAT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нтгенско зрачење, изотопи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штећење епителних ћелиј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X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зрац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ња субкапсуларна катара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соке температуре,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C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зра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увачи стакла, задња субкапсулар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омпликоване катарак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ератити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веити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новљене епизоде акутног глаук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сеудоексфолијативни глауком-сублуксација соч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уксов синд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уготрајна аблација рет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атолошке катаракте (системске болести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ндокр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јабетич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езана за тетан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д Стајнертове миопат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индерматотична- атопична дерматоза, Вернеров синдром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атрогене-кортизон, митотици, хлорпромазин, сулфонами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екундарна катара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мућења задње капсуле сочива после операције катарак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 сочива или услед постоперативне инфлам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лшнигове бу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емерингов прст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dobro operisano.jpg"/>
          <p:cNvPicPr/>
          <p:nvPr/>
        </p:nvPicPr>
        <p:blipFill>
          <a:blip r:embed="rId1"/>
          <a:stretch/>
        </p:blipFill>
        <p:spPr>
          <a:xfrm>
            <a:off x="5638680" y="4191120"/>
            <a:ext cx="3349800" cy="2519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sekunadria.jpg"/>
          <p:cNvPicPr/>
          <p:nvPr/>
        </p:nvPicPr>
        <p:blipFill>
          <a:blip r:embed="rId2"/>
          <a:stretch/>
        </p:blipFill>
        <p:spPr>
          <a:xfrm>
            <a:off x="7315200" y="152280"/>
            <a:ext cx="1676520" cy="16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онгенитална катара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ајчешће билатерал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зрок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Генетске мутације, А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етаболички поремећаји-галактозем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нтраутерина инфекција- рубела, токсоплаз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золова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дружене са системским поремећаји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став сочи</a:t>
            </a: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ПСУЛ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apsula lent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ПИТЕ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pithelium lent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ВНА ВЛАК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Fibrae lent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sastav sociva.jpg"/>
          <p:cNvPicPr/>
          <p:nvPr/>
        </p:nvPicPr>
        <p:blipFill>
          <a:blip r:embed="rId1"/>
          <a:stretch/>
        </p:blipFill>
        <p:spPr>
          <a:xfrm>
            <a:off x="419112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Облици конгениталне катарак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Зонуларне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: Нуклеарне, ламеларне, капсуларне, сутурал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оларне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: предња(перзистентна пупиларна мембрана), задња(перзистентни хијалоидни остац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Галактоземија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достатак галактозо-1-фосфат уридил трансферазе; Застој у развоју, повраћање, дијареа; Избацивање из исхране галактозе (млеко); Катаракта:централна у виду капи уљ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ефицит галактокиназ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Ловеов синдром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емећај метаболизма аминокиселина, дечаци, Катаракт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ло сочиво-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microphaki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аунов синдр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Content Placeholder 3" descr="congenita.jpg"/>
          <p:cNvPicPr/>
          <p:nvPr/>
        </p:nvPicPr>
        <p:blipFill>
          <a:blip r:embed="rId1"/>
          <a:stretch/>
        </p:blipFill>
        <p:spPr>
          <a:xfrm>
            <a:off x="762120" y="1143000"/>
            <a:ext cx="2495520" cy="174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ongenita 1.jpg"/>
          <p:cNvPicPr/>
          <p:nvPr/>
        </p:nvPicPr>
        <p:blipFill>
          <a:blip r:embed="rId2"/>
          <a:stretch/>
        </p:blipFill>
        <p:spPr>
          <a:xfrm>
            <a:off x="4800600" y="1371600"/>
            <a:ext cx="2952720" cy="1552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ongenita 2.jpg"/>
          <p:cNvPicPr/>
          <p:nvPr/>
        </p:nvPicPr>
        <p:blipFill>
          <a:blip r:embed="rId3"/>
          <a:stretch/>
        </p:blipFill>
        <p:spPr>
          <a:xfrm>
            <a:off x="2743200" y="365760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номалије облика соч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дњи лентиконус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Lenticonus anteri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њи лентикону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Lenticonus posteri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бом сочи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Coloboma lent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нтиглобу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(Lentiglob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крофак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Microphak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кросферофак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Microspherophak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Content Placeholder 3" descr="lenticonus ant.jpg"/>
          <p:cNvPicPr/>
          <p:nvPr/>
        </p:nvPicPr>
        <p:blipFill>
          <a:blip r:embed="rId1"/>
          <a:stretch/>
        </p:blipFill>
        <p:spPr>
          <a:xfrm>
            <a:off x="990720" y="304920"/>
            <a:ext cx="3095640" cy="2340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lenticonus post.jpg"/>
          <p:cNvPicPr/>
          <p:nvPr/>
        </p:nvPicPr>
        <p:blipFill>
          <a:blip r:embed="rId2"/>
          <a:stretch/>
        </p:blipFill>
        <p:spPr>
          <a:xfrm>
            <a:off x="4876920" y="380880"/>
            <a:ext cx="3125520" cy="2340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coloboma.jpg"/>
          <p:cNvPicPr/>
          <p:nvPr/>
        </p:nvPicPr>
        <p:blipFill>
          <a:blip r:embed="rId3"/>
          <a:stretch/>
        </p:blipFill>
        <p:spPr>
          <a:xfrm>
            <a:off x="0" y="2819520"/>
            <a:ext cx="4764240" cy="1800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lentiglobus.jpg"/>
          <p:cNvPicPr/>
          <p:nvPr/>
        </p:nvPicPr>
        <p:blipFill>
          <a:blip r:embed="rId4"/>
          <a:stretch/>
        </p:blipFill>
        <p:spPr>
          <a:xfrm>
            <a:off x="4551480" y="2819520"/>
            <a:ext cx="4592520" cy="1800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microspherophakia-5-638.jpg"/>
          <p:cNvPicPr/>
          <p:nvPr/>
        </p:nvPicPr>
        <p:blipFill>
          <a:blip r:embed="rId5"/>
          <a:stretch/>
        </p:blipFill>
        <p:spPr>
          <a:xfrm>
            <a:off x="2590920" y="5181480"/>
            <a:ext cx="31986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номалије положаја соч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тпуна дислокација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uxatio lenti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лимична дислокација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ubluxatio lentis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рођено-Марфанов, Марчезанијев синдром, хомоцистинуриј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ечено- траума, интраокуларни тумори, ПЕХ синд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Content Placeholder 3" descr="luxatio cv.jpg"/>
          <p:cNvPicPr/>
          <p:nvPr/>
        </p:nvPicPr>
        <p:blipFill>
          <a:blip r:embed="rId1"/>
          <a:stretch/>
        </p:blipFill>
        <p:spPr>
          <a:xfrm>
            <a:off x="3124080" y="3809880"/>
            <a:ext cx="2808360" cy="23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subluxatio 1.jpg"/>
          <p:cNvPicPr/>
          <p:nvPr/>
        </p:nvPicPr>
        <p:blipFill>
          <a:blip r:embed="rId2"/>
          <a:stretch/>
        </p:blipFill>
        <p:spPr>
          <a:xfrm>
            <a:off x="1447920" y="1371600"/>
            <a:ext cx="2955960" cy="2340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subluxatio.jpg"/>
          <p:cNvPicPr/>
          <p:nvPr/>
        </p:nvPicPr>
        <p:blipFill>
          <a:blip r:embed="rId3"/>
          <a:stretch/>
        </p:blipFill>
        <p:spPr>
          <a:xfrm>
            <a:off x="5334120" y="1371600"/>
            <a:ext cx="283356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рфанов синдром-А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абост везивног ткива: висок раст, дуги прсти, високо непце, дилатација аор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ктопија сочива, аномалије коморног угла, аблација рет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рчезанијев синдр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зак раст, брахидактилија, крути зглоб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ктопија сочива, глау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Хомоцистинуриј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фект цистатион синтетазе→ накупљање хомоцистина и метион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ктопија сочива, глау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апсула соч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ластична мембрана око соч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овидност и акомода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уп танких укрштених влакана (</a:t>
            </a:r>
            <a:r>
              <a:rPr b="0" i="1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fibrae zonulares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које спајају сочиво са цилијарним телом (70)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топлазматски продужеци светлих  ћелија цилијарног подручја ретин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ња, средња и предња влакна: припој 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5-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м испред  и 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м иза екват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ирургија катарак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тракапсуларна екстракција катарак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кстракапсуларна екстракција катарак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акоемулзификација катарак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ирургија катарак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дика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бољшање видне оштр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дицинске (болести изазване катарактом нпр. факолитични глауко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тетске (бела зениц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eukokoria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реоперативна офталмолошка припре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днекса ока (дакриоциститис, блефаритис лагофталмус,ентропијум, ектропијум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жњача: дистрофије ендотела→ризик од постоперативне кератопат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дњи очни сегмент: плитка СА, псеудоексфолијативни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Sy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(слабост зонул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ишен ИОП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Фундус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авестити пацијента о евентуалном обољењу очног д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Calibri"/>
              </a:rPr>
              <a:t>Анестез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окална топикал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тро, пери, пара булбарна,суб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н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шта  анестезија (ретк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алкулација јачине интраокуларног сочи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ератометр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иометрија- А скен ултразвуч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мпиријске формуле за прорачун јачине И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 скен ултразву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3" descr="uzv.jpg"/>
          <p:cNvPicPr/>
          <p:nvPr/>
        </p:nvPicPr>
        <p:blipFill>
          <a:blip r:embed="rId1"/>
          <a:stretch/>
        </p:blipFill>
        <p:spPr>
          <a:xfrm>
            <a:off x="58672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ascan.jpg"/>
          <p:cNvPicPr/>
          <p:nvPr/>
        </p:nvPicPr>
        <p:blipFill>
          <a:blip r:embed="rId2"/>
          <a:stretch/>
        </p:blipFill>
        <p:spPr>
          <a:xfrm>
            <a:off x="5943600" y="838080"/>
            <a:ext cx="2990880" cy="1524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Bscan.jpg"/>
          <p:cNvPicPr/>
          <p:nvPr/>
        </p:nvPicPr>
        <p:blipFill>
          <a:blip r:embed="rId3"/>
          <a:stretch/>
        </p:blipFill>
        <p:spPr>
          <a:xfrm>
            <a:off x="1371600" y="4648320"/>
            <a:ext cx="3352680" cy="136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нтракспуалрна екстракција катаракт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клањање читавог сочива (катаракте) заједно са капсулом крио-мето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екција афакије: наочаре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+10 Dp), CL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л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OL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м које се уграђује у пупиларни предео и ослања хаптицима на дужиц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топеративне компликације, аблација ретине, цистоидни едем маку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нтракапсуларна екстракција катарак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Content Placeholder 3" descr="ICCE.jpg"/>
          <p:cNvPicPr/>
          <p:nvPr/>
        </p:nvPicPr>
        <p:blipFill>
          <a:blip r:embed="rId1"/>
          <a:stretch/>
        </p:blipFill>
        <p:spPr>
          <a:xfrm>
            <a:off x="1533600" y="2154240"/>
            <a:ext cx="6076800" cy="34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Екстракапсуларна екстракција катарак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кстракапсуларна екстракција катарак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Широко отварањ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A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з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0-14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h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арање предње капсуле (капсулорекс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кспресија нукле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спирација и испирање сочивних м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градња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OL-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у цилијарни сулкус  или капсуларну врећиц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не: велики оперативни рез, ушива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Ектракапсуларна екстракција катарак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Content Placeholder 3" descr="ecce.jpg"/>
          <p:cNvPicPr/>
          <p:nvPr/>
        </p:nvPicPr>
        <p:blipFill>
          <a:blip r:embed="rId1"/>
          <a:stretch/>
        </p:blipFill>
        <p:spPr>
          <a:xfrm>
            <a:off x="2433600" y="1814400"/>
            <a:ext cx="427680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Факоемулзификац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арање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CA: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мозатварајућа инцизиј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Убризгавање вискоеластика у С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тинуирана кружна капсулорекс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дродисекција и Хидроделаминација: мобилизација нуклеуса и одвајање кортекс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рацентеза за инструменте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 ротацију сочи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ко сонда (шупља сонда од титанијума спојена са сондом у којој се налази пиезо електрични кристал) вибрира и врши факоемулзификацију сочивног материјала који се истовремено аспирир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витљиви </a:t>
            </a:r>
            <a:r>
              <a:rPr b="0" i="1" lang="sr-Latn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IOL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у сочивну капсул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з потребе за ушивањем ране рожњач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Епител соч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” ћелије:  један слој цилиндрично-кубоидних  ћ. испод предње капсуле →митотски неактива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Е” ћелије: у пределу екватора-герминативна зона интензивна митотичка активност,  ћелије се деле, издужују, губе једра стварајући сочивна влакана која се таложе у виду слоје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д задње капсуле нема епителних ћел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Content Placeholder 3" descr="phaco.jpg"/>
          <p:cNvPicPr/>
          <p:nvPr/>
        </p:nvPicPr>
        <p:blipFill>
          <a:blip r:embed="rId1"/>
          <a:stretch/>
        </p:blipFill>
        <p:spPr>
          <a:xfrm>
            <a:off x="1523880" y="533520"/>
            <a:ext cx="558180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омплик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Интраопераивн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уптура задње капсуле, дислокација фрагмената нуклеуса у витреус, субхороидалне хемора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остоперативн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утни септични ендофталмитис, Хронични асептични ендофталмитис “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ens toxic S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СТАКЛАСТО ТЕ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Membrana hyaloidea: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јачи припој у пределу 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ra serrate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за стакластог тела) и по ободу папиле видног живца (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area Martegian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99%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(humor vitreu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Мрежа колагену сличних влакана са доста хијалуронске киселине и мало ћелија хијалоцита (улога макрофаг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иферни кортекс и централни део витреу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Content Placeholder 3" descr="CV anatomy.jpg"/>
          <p:cNvPicPr/>
          <p:nvPr/>
        </p:nvPicPr>
        <p:blipFill>
          <a:blip r:embed="rId1"/>
          <a:stretch/>
        </p:blipFill>
        <p:spPr>
          <a:xfrm>
            <a:off x="2286000" y="1981080"/>
            <a:ext cx="4156200" cy="30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Улог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Физиолошк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тичка (рефракција 1,334), потпорна, фагоцитоза, исхрана, термо и електроизолац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атофизиолошка: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ектор патолошких производа (крв, фибрин), потпорно ткиво за раст нових крвних судо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ff0000"/>
                </a:solidFill>
                <a:latin typeface="Calibri"/>
              </a:rPr>
              <a:t>Преглед: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светљавање офталмоскоп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Биомикроскоп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Ултра-зву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Симптоми болести стакластог те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ацитати (покретна замућења) у виду конаца, тачкица у видном пољ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етлаци у видном пољу 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hotopsia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акција стакластог тела на рети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лимично или потпуно затамњење видног поља (масивна крваре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блација стаклстог т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рије особе, чешће же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генеративне промене у колагеној структури →колапс колагене структуре са накупљањем воде у насталом простору и одвајањ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V-a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у пределу папиле видног ж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гла појава опацитата; биомикроскопски се уочава бели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Weiss-ov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стен испред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цена периферије фундуса: руптур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Content Placeholder 3" descr="220px-Crtez_ablacije_vitrealne_membrane_jpg.jpg"/>
          <p:cNvPicPr/>
          <p:nvPr/>
        </p:nvPicPr>
        <p:blipFill>
          <a:blip r:embed="rId1"/>
          <a:stretch/>
        </p:blipFill>
        <p:spPr>
          <a:xfrm>
            <a:off x="1143000" y="1600200"/>
            <a:ext cx="2095560" cy="3990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ruptura.png"/>
          <p:cNvPicPr/>
          <p:nvPr/>
        </p:nvPicPr>
        <p:blipFill>
          <a:blip r:embed="rId2"/>
          <a:stretch/>
        </p:blipFill>
        <p:spPr>
          <a:xfrm>
            <a:off x="4495680" y="1981080"/>
            <a:ext cx="335916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Дегенеративне промене код миоп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одњавање и спори постепени колапс  колагене структуре→опацит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тензивирање опацитата: сумња на ретиналну рупту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7" descr="epitel odlicno.jpg"/>
          <p:cNvPicPr/>
          <p:nvPr/>
        </p:nvPicPr>
        <p:blipFill>
          <a:blip r:embed="rId1"/>
          <a:stretch/>
        </p:blipFill>
        <p:spPr>
          <a:xfrm>
            <a:off x="990720" y="457200"/>
            <a:ext cx="744048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Семиологија промена у стакластом тел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варење- хемофталмус из новоформираних крвних суд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варење после настанка руптуре рет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паљенски ексудат код увеити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паљенски ексудат код ендофталмитиса-нема црвеног рефлекса, жућкастог изгледа, интравитреалне инјекције леко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травитреална страна те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Content Placeholder 3" descr="endophthalmitis.jpg"/>
          <p:cNvPicPr/>
          <p:nvPr/>
        </p:nvPicPr>
        <p:blipFill>
          <a:blip r:embed="rId1"/>
          <a:stretch/>
        </p:blipFill>
        <p:spPr>
          <a:xfrm>
            <a:off x="685800" y="3581280"/>
            <a:ext cx="7620120" cy="3038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emoftalmus.jpg"/>
          <p:cNvPicPr/>
          <p:nvPr/>
        </p:nvPicPr>
        <p:blipFill>
          <a:blip r:embed="rId2"/>
          <a:stretch/>
        </p:blipFill>
        <p:spPr>
          <a:xfrm>
            <a:off x="1066680" y="1066680"/>
            <a:ext cx="2314800" cy="1971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hemoftalkmus uzv.jpg"/>
          <p:cNvPicPr/>
          <p:nvPr/>
        </p:nvPicPr>
        <p:blipFill>
          <a:blip r:embed="rId3"/>
          <a:stretch/>
        </p:blipFill>
        <p:spPr>
          <a:xfrm>
            <a:off x="4724280" y="990720"/>
            <a:ext cx="3133800" cy="23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вала 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очивна влакн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ине масу сочива тј. НУКЛЕУС и КОРТЕКС→ не постоји јасна граница између ове две структу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туре: линије дуж којих се завршавају и почињу сочивна влакна→напред у  облику усправног а позади обрнутог слов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уклеус: ЕМБРИОНАЛНИ, ФЕТАЛНИ, ИНФАНТИЛНИ, АДУЛТНИ (образује се после 25 годин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in7</dc:creator>
  <dc:description/>
  <dc:language>en-US</dc:language>
  <cp:lastModifiedBy>Windows User</cp:lastModifiedBy>
  <dcterms:modified xsi:type="dcterms:W3CDTF">2020-09-26T16:28:51Z</dcterms:modified>
  <cp:revision>12</cp:revision>
  <dc:subject/>
  <dc:title>СОЧИВО И СТАКЛАСТО ТЕЛO АНАТОМИЈА,   ХИСТОЛОГИЈА, ФИЗИОЛОГИЈА И ПАТОЛОГИЈА.           ФУНКЦИОНАЛНА ДИЈАГНОСТИКА,    САВРЕМЕНИ ТЕРАПИЈСКИ МОДУЛИ</dc:title>
</cp:coreProperties>
</file>